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6858000" cy="9144000"/>
  <p:custShowLst>
    <p:custShow name="Study Guide" id="0">
      <p:sldLst>
        <p:sld r:id="rId43"/>
        <p:sld r:id="rId44"/>
        <p:sld r:id="rId45"/>
        <p:sld r:id="rId4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3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3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" Target="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3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SS_CO_PPT"/>
          <p:cNvPicPr/>
          <p:nvPr/>
        </p:nvPicPr>
        <p:blipFill>
          <a:blip r:embed="rId2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"/>
          <p:cNvPicPr/>
          <p:nvPr/>
        </p:nvPicPr>
        <p:blipFill>
          <a:blip r:embed="rId2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kl"/>
          <p:cNvPicPr/>
          <p:nvPr/>
        </p:nvPicPr>
        <p:blipFill>
          <a:blip r:embed="rId3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kr"/>
          <p:cNvPicPr/>
          <p:nvPr/>
        </p:nvPicPr>
        <p:blipFill>
          <a:blip r:embed="rId4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x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b"/>
          <p:cNvPicPr/>
          <p:nvPr/>
        </p:nvPicPr>
        <p:blipFill>
          <a:blip r:embed="rId6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Proto01_PPP_STP_PPT_HS_659252_top1_long"/>
          <p:cNvPicPr/>
          <p:nvPr/>
        </p:nvPicPr>
        <p:blipFill>
          <a:blip r:embed="rId7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l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r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h"/>
          <p:cNvPicPr/>
          <p:nvPr/>
        </p:nvPicPr>
        <p:blipFill>
          <a:blip r:embed="rId10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"/>
          <p:cNvPicPr/>
          <p:nvPr/>
        </p:nvPicPr>
        <p:blipFill>
          <a:blip r:embed="rId2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kl"/>
          <p:cNvPicPr/>
          <p:nvPr/>
        </p:nvPicPr>
        <p:blipFill>
          <a:blip r:embed="rId3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kr"/>
          <p:cNvPicPr/>
          <p:nvPr/>
        </p:nvPicPr>
        <p:blipFill>
          <a:blip r:embed="rId4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x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b"/>
          <p:cNvPicPr/>
          <p:nvPr/>
        </p:nvPicPr>
        <p:blipFill>
          <a:blip r:embed="rId6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Proto01_PPP_STP_PPT_HS_659252_top1_long"/>
          <p:cNvPicPr/>
          <p:nvPr/>
        </p:nvPicPr>
        <p:blipFill>
          <a:blip r:embed="rId7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l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h"/>
          <p:cNvPicPr/>
          <p:nvPr/>
        </p:nvPicPr>
        <p:blipFill>
          <a:blip r:embed="rId9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Proto01_PPP_STP_PPT_HS_659252_tab2"/>
          <p:cNvPicPr/>
          <p:nvPr/>
        </p:nvPicPr>
        <p:blipFill>
          <a:blip r:embed="rId2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l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" descr="HSS_End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5">
            <a:hlinkClick r:id="rId3" action="ppaction://hlinksldjump"/>
          </p:cNvPr>
          <p:cNvSpPr/>
          <p:nvPr/>
        </p:nvSpPr>
        <p:spPr>
          <a:xfrm>
            <a:off x="1447920" y="220968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roto01_PPP_PPT_HS_659252_bottom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MC EXI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38188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r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b"/>
          <p:cNvPicPr/>
          <p:nvPr/>
        </p:nvPicPr>
        <p:blipFill>
          <a:blip r:embed="rId5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kl"/>
          <p:cNvPicPr/>
          <p:nvPr/>
        </p:nvPicPr>
        <p:blipFill>
          <a:blip r:embed="rId8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kr"/>
          <p:cNvPicPr/>
          <p:nvPr/>
        </p:nvPicPr>
        <p:blipFill>
          <a:blip r:embed="rId9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x"/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x"/>
          <p:cNvPicPr/>
          <p:nvPr/>
        </p:nvPicPr>
        <p:blipFill>
          <a:blip r:embed="rId9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8" descr="x"/>
          <p:cNvPicPr/>
          <p:nvPr/>
        </p:nvPicPr>
        <p:blipFill>
          <a:blip r:embed="rId9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5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6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7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8" descr="x"/>
          <p:cNvPicPr/>
          <p:nvPr/>
        </p:nvPicPr>
        <p:blipFill>
          <a:blip r:embed="rId9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Proto01_PPP_STP_PPT_HS_659252_top1_long"/>
          <p:cNvPicPr/>
          <p:nvPr/>
        </p:nvPicPr>
        <p:blipFill>
          <a:blip r:embed="rId2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l"/>
          <p:cNvPicPr/>
          <p:nvPr/>
        </p:nvPicPr>
        <p:blipFill>
          <a:blip r:embed="rId3"/>
          <a:stretch/>
        </p:blipFill>
        <p:spPr>
          <a:xfrm>
            <a:off x="8508960" y="6380280"/>
            <a:ext cx="622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"/>
          <p:cNvPicPr/>
          <p:nvPr/>
        </p:nvPicPr>
        <p:blipFill>
          <a:blip r:embed="rId2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kl"/>
          <p:cNvPicPr/>
          <p:nvPr/>
        </p:nvPicPr>
        <p:blipFill>
          <a:blip r:embed="rId3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kr"/>
          <p:cNvPicPr/>
          <p:nvPr/>
        </p:nvPicPr>
        <p:blipFill>
          <a:blip r:embed="rId4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x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b"/>
          <p:cNvPicPr/>
          <p:nvPr/>
        </p:nvPicPr>
        <p:blipFill>
          <a:blip r:embed="rId6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Proto01_PPP_STP_PPT_HS_659252_top1_long"/>
          <p:cNvPicPr/>
          <p:nvPr/>
        </p:nvPicPr>
        <p:blipFill>
          <a:blip r:embed="rId7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r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h"/>
          <p:cNvPicPr/>
          <p:nvPr/>
        </p:nvPicPr>
        <p:blipFill>
          <a:blip r:embed="rId9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8"/>
          <p:cNvSpPr/>
          <p:nvPr/>
        </p:nvSpPr>
        <p:spPr>
          <a:xfrm>
            <a:off x="2414520" y="3625920"/>
            <a:ext cx="5510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11: Stoichiomet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1447920" y="7308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Akazan Rg"/>
              </a:rPr>
              <a:t>CHEMISTRY </a:t>
            </a:r>
            <a:br>
              <a:rPr sz="7200"/>
            </a:br>
            <a:r>
              <a:rPr b="0" i="1" lang="en-US" sz="4800" spc="-1" strike="noStrike">
                <a:solidFill>
                  <a:srgbClr val="ffffff"/>
                </a:solidFill>
                <a:latin typeface="Akazan Rg"/>
              </a:rPr>
              <a:t>Matter and Chang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3"/>
          <p:cNvSpPr/>
          <p:nvPr/>
        </p:nvSpPr>
        <p:spPr>
          <a:xfrm>
            <a:off x="533520" y="104616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Using Stoichiometry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530280" y="1779480"/>
            <a:ext cx="830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to solve mole-to-mole, mole-to-mass, and mass-to-mass stoichiometric probl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530280" y="2719440"/>
            <a:ext cx="8308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95160" y="3989520"/>
            <a:ext cx="800424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500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ass (in grams) of the given substance is the starting unit, you must convert to mo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3500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mount (in moles) of the given substance is the starting unit, convert moles of the given substance to moles of the unknow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ichiometric Calc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6"/>
          <p:cNvSpPr/>
          <p:nvPr/>
        </p:nvSpPr>
        <p:spPr>
          <a:xfrm>
            <a:off x="530280" y="1736640"/>
            <a:ext cx="762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530280" y="2617920"/>
            <a:ext cx="800424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500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answer must be in moles, stop you are finish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3500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answer must be in grams, convert moles of unknown to grams of unknown using the molar mass as the conversion facto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0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ichiometric Calc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533520" y="104616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Using Stoichiometry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8"/>
          <p:cNvSpPr/>
          <p:nvPr/>
        </p:nvSpPr>
        <p:spPr>
          <a:xfrm>
            <a:off x="609480" y="1752480"/>
            <a:ext cx="8153640" cy="38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bon dioxide exhaled by astronauts can be removed from a spacecraft by reacting with lithium hydroxide as follow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+   LiO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→    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verage person exhales about 20 moles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day.  How many moles of LiOH would be required to maintain 2 astronauts in  a spacecraft for three days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ichiometric Calc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533520" y="104616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Using Stoichiometry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7226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equation:                                         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99cc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+ 2LiOH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→ Li</a:t>
            </a:r>
            <a:r>
              <a:rPr b="0" lang="en-US" sz="2800" spc="-1" strike="noStrike" baseline="-25000">
                <a:solidFill>
                  <a:srgbClr val="0099cc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0099cc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  + H</a:t>
            </a:r>
            <a:r>
              <a:rPr b="0" lang="en-US" sz="2800" spc="-1" strike="noStrike" baseline="-25000">
                <a:solidFill>
                  <a:srgbClr val="0099cc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ermine moles of given substance:  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20moles per person, 2 people = 40moles x 3 days = 120moles of CO</a:t>
            </a:r>
            <a:r>
              <a:rPr b="0" lang="en-US" sz="2800" spc="-1" strike="noStrike" baseline="-25000">
                <a:solidFill>
                  <a:srgbClr val="0099cc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vert moles of given substance to moles of unknown:                                                       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120 mol CO</a:t>
            </a:r>
            <a:r>
              <a:rPr b="0" lang="en-US" sz="2800" spc="-1" strike="noStrike" baseline="-25000">
                <a:solidFill>
                  <a:srgbClr val="0099cc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 x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Arial"/>
                <a:ea typeface="Arial"/>
              </a:rPr>
              <a:t>2 mol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 = 240moles of Li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ichiometric Calc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533520" y="104616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Using Stoichiometry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16" descr="SO_Objectives"/>
          <p:cNvPicPr/>
          <p:nvPr/>
        </p:nvPicPr>
        <p:blipFill>
          <a:blip r:embed="rId1"/>
          <a:stretch/>
        </p:blipFill>
        <p:spPr>
          <a:xfrm>
            <a:off x="557280" y="107964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8"/>
          <p:cNvSpPr/>
          <p:nvPr/>
        </p:nvSpPr>
        <p:spPr>
          <a:xfrm>
            <a:off x="558720" y="16653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miting reactant in a chemical equ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19" descr="SO_RevVocab"/>
          <p:cNvPicPr/>
          <p:nvPr/>
        </p:nvPicPr>
        <p:blipFill>
          <a:blip r:embed="rId2"/>
          <a:stretch/>
        </p:blipFill>
        <p:spPr>
          <a:xfrm>
            <a:off x="557280" y="396252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20"/>
          <p:cNvSpPr/>
          <p:nvPr/>
        </p:nvSpPr>
        <p:spPr>
          <a:xfrm>
            <a:off x="582480" y="4660920"/>
            <a:ext cx="7520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olar ma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ss in grams of one mole of any pure sub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3"/>
          <p:cNvSpPr/>
          <p:nvPr/>
        </p:nvSpPr>
        <p:spPr>
          <a:xfrm>
            <a:off x="558720" y="220968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ess reactant, and calculate the amount remaining after the reaction is complet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lcul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ss of a product when the amounts of more than one reactant are give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act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8" descr="SO_NewVocab"/>
          <p:cNvPicPr/>
          <p:nvPr/>
        </p:nvPicPr>
        <p:blipFill>
          <a:blip r:embed="rId1"/>
          <a:stretch/>
        </p:blipFill>
        <p:spPr>
          <a:xfrm>
            <a:off x="557280" y="10810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9"/>
          <p:cNvSpPr/>
          <p:nvPr/>
        </p:nvSpPr>
        <p:spPr>
          <a:xfrm>
            <a:off x="588960" y="1828800"/>
            <a:ext cx="35258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limiting reac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excess reac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2314440" y="4343400"/>
            <a:ext cx="5943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hemical reaction stops when one of the reactants is used u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3" descr="MainIdea"/>
          <p:cNvPicPr/>
          <p:nvPr/>
        </p:nvPicPr>
        <p:blipFill>
          <a:blip r:embed="rId2"/>
          <a:stretch/>
        </p:blipFill>
        <p:spPr>
          <a:xfrm>
            <a:off x="641520" y="4361040"/>
            <a:ext cx="1649160" cy="40932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15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6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act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6"/>
          <p:cNvSpPr/>
          <p:nvPr/>
        </p:nvSpPr>
        <p:spPr>
          <a:xfrm>
            <a:off x="558720" y="1039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Why do reactions stop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530280" y="180180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 proceed until one of the reactants is used up and one is left in exce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9"/>
          <p:cNvSpPr/>
          <p:nvPr/>
        </p:nvSpPr>
        <p:spPr>
          <a:xfrm>
            <a:off x="530280" y="3216240"/>
            <a:ext cx="77756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limiting reac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excess reactan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5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act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13"/>
          <p:cNvSpPr/>
          <p:nvPr/>
        </p:nvSpPr>
        <p:spPr>
          <a:xfrm>
            <a:off x="533520" y="1798560"/>
            <a:ext cx="73911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the limiting reactant is important because the amount of the product formed depends on this react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4" descr="C12-02C-828378-08"/>
          <p:cNvPicPr/>
          <p:nvPr/>
        </p:nvPicPr>
        <p:blipFill>
          <a:blip r:embed="rId1"/>
          <a:stretch/>
        </p:blipFill>
        <p:spPr>
          <a:xfrm>
            <a:off x="612720" y="3551400"/>
            <a:ext cx="7891560" cy="182088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1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act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22"/>
          <p:cNvSpPr/>
          <p:nvPr/>
        </p:nvSpPr>
        <p:spPr>
          <a:xfrm>
            <a:off x="558720" y="1039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Why do reactions stop?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5" descr="CIM"/>
          <p:cNvPicPr/>
          <p:nvPr/>
        </p:nvPicPr>
        <p:blipFill>
          <a:blip r:embed="rId2"/>
          <a:stretch/>
        </p:blipFill>
        <p:spPr>
          <a:xfrm>
            <a:off x="3606840" y="5537160"/>
            <a:ext cx="184608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3"/>
          <p:cNvSpPr/>
          <p:nvPr/>
        </p:nvSpPr>
        <p:spPr>
          <a:xfrm>
            <a:off x="546120" y="1041480"/>
            <a:ext cx="836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alculating the Product when a Reactant is Limi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542880" y="2190600"/>
            <a:ext cx="739152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l) + 4C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g) → 4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l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542880" y="2836800"/>
            <a:ext cx="82962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f 200.0g of sulfur reacts with 100.0g of chlorine, what mass of disulfur dichloride is produce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Times New Roman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11" descr=""/>
          <p:cNvPicPr/>
          <p:nvPr/>
        </p:nvPicPr>
        <p:blipFill>
          <a:blip r:embed="rId1"/>
          <a:stretch/>
        </p:blipFill>
        <p:spPr>
          <a:xfrm>
            <a:off x="1758960" y="4475160"/>
            <a:ext cx="4946760" cy="141588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4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act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69800" y="2116080"/>
            <a:ext cx="852192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99cc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Determine whether the two reactants are in the *, as given in the balanced chemical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Only 1.808 mol of chlorine is available for every 1 mol sulfur, instead of the 4mol of chlorine required by the balanced chemical equation, thus chlorine is the limiting reac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546120" y="104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alculating the Product when a Reactant is Limiting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1"/>
          <a:stretch/>
        </p:blipFill>
        <p:spPr>
          <a:xfrm>
            <a:off x="1650960" y="3486240"/>
            <a:ext cx="6145200" cy="85716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act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8"/>
          <p:cNvSpPr/>
          <p:nvPr/>
        </p:nvSpPr>
        <p:spPr>
          <a:xfrm>
            <a:off x="1085760" y="2286000"/>
            <a:ext cx="7296120" cy="38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11.1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Defining Stoichiomet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11.2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Stoichiometric Calcu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11.3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Limiting React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11.4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Percent Yie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7729560" y="6164280"/>
            <a:ext cx="609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9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1981080" y="29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304920" y="6095880"/>
            <a:ext cx="64008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13142"/>
                </a:solidFill>
                <a:latin typeface="Arial"/>
              </a:rPr>
              <a:t>Click a hyperlink to view the corresponding slide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76212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5" descr=""/>
          <p:cNvPicPr/>
          <p:nvPr/>
        </p:nvPicPr>
        <p:blipFill>
          <a:blip r:embed="rId1"/>
          <a:stretch/>
        </p:blipFill>
        <p:spPr>
          <a:xfrm>
            <a:off x="730080" y="2911320"/>
            <a:ext cx="7499520" cy="82260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act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546120" y="104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alculating the Product when a Reactant is Limiting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4"/>
          <p:cNvSpPr/>
          <p:nvPr/>
        </p:nvSpPr>
        <p:spPr>
          <a:xfrm>
            <a:off x="530280" y="2184480"/>
            <a:ext cx="829620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you have determined the limiting reactant and the amount of product formed, what about the excess reactant, sulfur? How much of it reacted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6" descr=""/>
          <p:cNvPicPr/>
          <p:nvPr/>
        </p:nvPicPr>
        <p:blipFill>
          <a:blip r:embed="rId1"/>
          <a:stretch/>
        </p:blipFill>
        <p:spPr>
          <a:xfrm>
            <a:off x="2082960" y="5235480"/>
            <a:ext cx="5079960" cy="70812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act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546120" y="104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alculating the Product when a Reactant is Limiting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673200" y="1917720"/>
            <a:ext cx="839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*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Knowing that 200.0g of sulfur is available and only 90.42g is needed, you can calculate the *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5" descr=""/>
          <p:cNvPicPr/>
          <p:nvPr/>
        </p:nvPicPr>
        <p:blipFill>
          <a:blip r:embed="rId1"/>
          <a:stretch/>
        </p:blipFill>
        <p:spPr>
          <a:xfrm>
            <a:off x="1359000" y="2603520"/>
            <a:ext cx="6621480" cy="8571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" descr=""/>
          <p:cNvPicPr/>
          <p:nvPr/>
        </p:nvPicPr>
        <p:blipFill>
          <a:blip r:embed="rId2"/>
          <a:stretch/>
        </p:blipFill>
        <p:spPr>
          <a:xfrm>
            <a:off x="630360" y="5410080"/>
            <a:ext cx="8196120" cy="44604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act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2"/>
          <p:cNvSpPr/>
          <p:nvPr/>
        </p:nvSpPr>
        <p:spPr>
          <a:xfrm>
            <a:off x="546120" y="104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alculating the Product when a Reactant is Limiting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4"/>
          <p:cNvSpPr/>
          <p:nvPr/>
        </p:nvSpPr>
        <p:spPr>
          <a:xfrm>
            <a:off x="530280" y="218916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n excess reactant can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530280" y="3216240"/>
            <a:ext cx="777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n excess reactant can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act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2"/>
          <p:cNvSpPr/>
          <p:nvPr/>
        </p:nvSpPr>
        <p:spPr>
          <a:xfrm>
            <a:off x="546120" y="104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alculating the Product when a Reactant is Limiting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Oval 2"/>
          <p:cNvSpPr/>
          <p:nvPr/>
        </p:nvSpPr>
        <p:spPr>
          <a:xfrm>
            <a:off x="503280" y="3048120"/>
            <a:ext cx="533520" cy="53316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9"/>
          <p:cNvSpPr/>
          <p:nvPr/>
        </p:nvSpPr>
        <p:spPr>
          <a:xfrm>
            <a:off x="530280" y="1295280"/>
            <a:ext cx="808020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mass of the final product in a chemical reaction is based on what?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of excess reacta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of limiting reacta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a cataly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ount of 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es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14" descr="SO_Objectives"/>
          <p:cNvPicPr/>
          <p:nvPr/>
        </p:nvPicPr>
        <p:blipFill>
          <a:blip r:embed="rId1"/>
          <a:stretch/>
        </p:blipFill>
        <p:spPr>
          <a:xfrm>
            <a:off x="557280" y="10666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16"/>
          <p:cNvSpPr/>
          <p:nvPr/>
        </p:nvSpPr>
        <p:spPr>
          <a:xfrm>
            <a:off x="609480" y="166536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lcul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oretical yield of a chemical reaction from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7" descr="SO_RevVocab"/>
          <p:cNvPicPr/>
          <p:nvPr/>
        </p:nvPicPr>
        <p:blipFill>
          <a:blip r:embed="rId2"/>
          <a:stretch/>
        </p:blipFill>
        <p:spPr>
          <a:xfrm>
            <a:off x="4724280" y="10666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8"/>
          <p:cNvSpPr/>
          <p:nvPr/>
        </p:nvSpPr>
        <p:spPr>
          <a:xfrm>
            <a:off x="4780080" y="1665360"/>
            <a:ext cx="3525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c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actions or opera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9" descr="SO_NewVocab"/>
          <p:cNvPicPr/>
          <p:nvPr/>
        </p:nvPicPr>
        <p:blipFill>
          <a:blip r:embed="rId3"/>
          <a:stretch/>
        </p:blipFill>
        <p:spPr>
          <a:xfrm>
            <a:off x="4724280" y="24382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20"/>
          <p:cNvSpPr/>
          <p:nvPr/>
        </p:nvSpPr>
        <p:spPr>
          <a:xfrm>
            <a:off x="4780080" y="3103560"/>
            <a:ext cx="352584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theoretical y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actual y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ercent y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1"/>
          <p:cNvSpPr/>
          <p:nvPr/>
        </p:nvSpPr>
        <p:spPr>
          <a:xfrm>
            <a:off x="609480" y="294336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term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cent yield for a chemical rea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3"/>
          <p:cNvSpPr/>
          <p:nvPr/>
        </p:nvSpPr>
        <p:spPr>
          <a:xfrm>
            <a:off x="2314440" y="5029200"/>
            <a:ext cx="5943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nt yield is a measure of the efficiency of a chemical rea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24" descr="MainIdea"/>
          <p:cNvPicPr/>
          <p:nvPr/>
        </p:nvPicPr>
        <p:blipFill>
          <a:blip r:embed="rId4"/>
          <a:stretch/>
        </p:blipFill>
        <p:spPr>
          <a:xfrm>
            <a:off x="641520" y="5046840"/>
            <a:ext cx="1649160" cy="4093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2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cent Yie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6"/>
          <p:cNvSpPr/>
          <p:nvPr/>
        </p:nvSpPr>
        <p:spPr>
          <a:xfrm>
            <a:off x="533520" y="10414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How much produc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530280" y="180324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reactions do not always 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530280" y="2844720"/>
            <a:ext cx="77756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ants stick to contain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ng reactions form other produ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1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cent Yie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6"/>
          <p:cNvSpPr/>
          <p:nvPr/>
        </p:nvSpPr>
        <p:spPr>
          <a:xfrm>
            <a:off x="533520" y="10414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How much product?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530280" y="1676520"/>
            <a:ext cx="837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theoretical yiel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530280" y="2895480"/>
            <a:ext cx="84358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actual 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percent yiel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 a product is the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9" descr="percentyield"/>
          <p:cNvPicPr/>
          <p:nvPr/>
        </p:nvPicPr>
        <p:blipFill>
          <a:blip r:embed="rId1"/>
          <a:stretch/>
        </p:blipFill>
        <p:spPr>
          <a:xfrm>
            <a:off x="2133720" y="5153040"/>
            <a:ext cx="4752720" cy="79056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cent Yie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3"/>
          <p:cNvSpPr/>
          <p:nvPr/>
        </p:nvSpPr>
        <p:spPr>
          <a:xfrm>
            <a:off x="533520" y="10414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ercent Yield in the Marketpl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530280" y="1650960"/>
            <a:ext cx="8308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 yield is important in the cost effectiveness of many industrial manufacturing process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0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cent Yie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6"/>
          <p:cNvSpPr/>
          <p:nvPr/>
        </p:nvSpPr>
        <p:spPr>
          <a:xfrm>
            <a:off x="495360" y="120024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7"/>
          <p:cNvSpPr/>
          <p:nvPr/>
        </p:nvSpPr>
        <p:spPr>
          <a:xfrm>
            <a:off x="495360" y="1790640"/>
            <a:ext cx="8369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 chemical equations can be interpreted in terms of moles, mass, and representative particles (atoms, molecules, formula unit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9"/>
          <p:cNvSpPr/>
          <p:nvPr/>
        </p:nvSpPr>
        <p:spPr>
          <a:xfrm>
            <a:off x="495360" y="2990880"/>
            <a:ext cx="8343720" cy="26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w of conservation of mass applies to all chemical reac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 ratios are derived from the coefficients of a balanced chemical equation. Each mole ratio relates the number of moles of one reactant or product to the number of moles of another reactant or product in the chemical rea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ng Stoichio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8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20" descr="l"/>
          <p:cNvPicPr/>
          <p:nvPr/>
        </p:nvPicPr>
        <p:blipFill>
          <a:blip r:embed="rId1"/>
          <a:stretch/>
        </p:blipFill>
        <p:spPr>
          <a:xfrm>
            <a:off x="33480" y="638820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2" descr="SO_Objectives"/>
          <p:cNvPicPr/>
          <p:nvPr/>
        </p:nvPicPr>
        <p:blipFill>
          <a:blip r:embed="rId1"/>
          <a:stretch/>
        </p:blipFill>
        <p:spPr>
          <a:xfrm>
            <a:off x="557280" y="10666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11"/>
          <p:cNvSpPr/>
          <p:nvPr/>
        </p:nvSpPr>
        <p:spPr>
          <a:xfrm>
            <a:off x="609480" y="1665360"/>
            <a:ext cx="381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scri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es of relationships indicated by a balanced chemical equ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5" descr="SO_RevVocab"/>
          <p:cNvPicPr/>
          <p:nvPr/>
        </p:nvPicPr>
        <p:blipFill>
          <a:blip r:embed="rId2"/>
          <a:stretch/>
        </p:blipFill>
        <p:spPr>
          <a:xfrm>
            <a:off x="4724280" y="10666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6"/>
          <p:cNvSpPr/>
          <p:nvPr/>
        </p:nvSpPr>
        <p:spPr>
          <a:xfrm>
            <a:off x="4800600" y="1665360"/>
            <a:ext cx="3525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actan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rting substance in a chemical re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7" descr="SO_NewVocab"/>
          <p:cNvPicPr/>
          <p:nvPr/>
        </p:nvPicPr>
        <p:blipFill>
          <a:blip r:embed="rId3"/>
          <a:stretch/>
        </p:blipFill>
        <p:spPr>
          <a:xfrm>
            <a:off x="4724280" y="281952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8"/>
          <p:cNvSpPr/>
          <p:nvPr/>
        </p:nvSpPr>
        <p:spPr>
          <a:xfrm>
            <a:off x="4800600" y="3505320"/>
            <a:ext cx="35258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stoichi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mole rat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609480" y="330516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e ratios from a balanced chemical equ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7"/>
          <p:cNvSpPr/>
          <p:nvPr/>
        </p:nvSpPr>
        <p:spPr>
          <a:xfrm>
            <a:off x="2314440" y="4876920"/>
            <a:ext cx="6524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ount of each reactant present at the start of a chemical reaction determines how much product can for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8" descr="MainIdea"/>
          <p:cNvPicPr/>
          <p:nvPr/>
        </p:nvPicPr>
        <p:blipFill>
          <a:blip r:embed="rId4"/>
          <a:stretch/>
        </p:blipFill>
        <p:spPr>
          <a:xfrm>
            <a:off x="641520" y="4894200"/>
            <a:ext cx="1649160" cy="40968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ng Stoichio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5"/>
          <p:cNvSpPr/>
          <p:nvPr/>
        </p:nvSpPr>
        <p:spPr>
          <a:xfrm>
            <a:off x="495360" y="119556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495360" y="1785960"/>
            <a:ext cx="8381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s use stoichiometric calculations to predict the amounts of reactants used and products formed in specific reac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495360" y="2971800"/>
            <a:ext cx="839448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tep in solving stoichiometric problems is writing the balanced chemical equa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 ratios derived from the balanced chemical equation are used in stoichiometric calculation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ichiometric problems make use of mole ratios to  convert between mass and mo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3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ichiometric Calc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4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5"/>
          <p:cNvSpPr/>
          <p:nvPr/>
        </p:nvSpPr>
        <p:spPr>
          <a:xfrm>
            <a:off x="495360" y="119376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495360" y="1784520"/>
            <a:ext cx="8381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miting reactant is the reactant that is completely consumed during a chemical reaction. Reactants that remain after the reaction stops are called excess react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7"/>
          <p:cNvSpPr/>
          <p:nvPr/>
        </p:nvSpPr>
        <p:spPr>
          <a:xfrm>
            <a:off x="495360" y="3346560"/>
            <a:ext cx="835668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the limiting reactant, the actual mole ratio of the available reactants must be compared with the ratio of the reactants obtained from the coefficients in the balanced chemical equa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ichiometric calculations must be based on the limiting reacta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act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4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13"/>
          <p:cNvSpPr/>
          <p:nvPr/>
        </p:nvSpPr>
        <p:spPr>
          <a:xfrm>
            <a:off x="495360" y="119844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4"/>
          <p:cNvSpPr/>
          <p:nvPr/>
        </p:nvSpPr>
        <p:spPr>
          <a:xfrm>
            <a:off x="495360" y="1662120"/>
            <a:ext cx="8381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oretical yield of a chemical reaction is the maximum amount of product that can be produced from a given amount of reactant. Theoretical yield is calculated from the balanced chemical equ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495360" y="3137040"/>
            <a:ext cx="838188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ual yield is the amount of product produced. Actual yield must be obtained through experimenta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yield is the ratio of actual yield to theoretical yield expressed as a percent. High percent yield is important in reducing the cost of every product produced through chemical proce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16" descr="percentyield"/>
          <p:cNvPicPr/>
          <p:nvPr/>
        </p:nvPicPr>
        <p:blipFill>
          <a:blip r:embed="rId1"/>
          <a:stretch/>
        </p:blipFill>
        <p:spPr>
          <a:xfrm>
            <a:off x="2965320" y="5384880"/>
            <a:ext cx="3206880" cy="53316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1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cent Yie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0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3"/>
          <p:cNvSpPr/>
          <p:nvPr/>
        </p:nvSpPr>
        <p:spPr>
          <a:xfrm>
            <a:off x="533520" y="103824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article and Mole Relationsh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3"/>
          <p:cNvSpPr/>
          <p:nvPr/>
        </p:nvSpPr>
        <p:spPr>
          <a:xfrm>
            <a:off x="530280" y="180036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stop when one of the reactants is used u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530280" y="2841480"/>
            <a:ext cx="777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Stoichiometr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tudy of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ng Stoichio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9"/>
          <p:cNvSpPr/>
          <p:nvPr/>
        </p:nvSpPr>
        <p:spPr>
          <a:xfrm>
            <a:off x="530280" y="179388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ichiometry is based on the law of conservation of m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1"/>
          <p:cNvSpPr/>
          <p:nvPr/>
        </p:nvSpPr>
        <p:spPr>
          <a:xfrm>
            <a:off x="530280" y="2835360"/>
            <a:ext cx="777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s of reactants equals the mass of the produ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ng Stoichio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2"/>
          <p:cNvSpPr/>
          <p:nvPr/>
        </p:nvSpPr>
        <p:spPr>
          <a:xfrm>
            <a:off x="533520" y="103824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article and Mole Relationship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6" descr="TABLE11"/>
          <p:cNvPicPr/>
          <p:nvPr/>
        </p:nvPicPr>
        <p:blipFill>
          <a:blip r:embed="rId1"/>
          <a:stretch/>
        </p:blipFill>
        <p:spPr>
          <a:xfrm>
            <a:off x="1558800" y="1676520"/>
            <a:ext cx="5985000" cy="350496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ng Stoichio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7"/>
          <p:cNvSpPr/>
          <p:nvPr/>
        </p:nvSpPr>
        <p:spPr>
          <a:xfrm>
            <a:off x="533520" y="103824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article and Mole Relationship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0" descr="CIM"/>
          <p:cNvPicPr/>
          <p:nvPr/>
        </p:nvPicPr>
        <p:blipFill>
          <a:blip r:embed="rId2"/>
          <a:stretch/>
        </p:blipFill>
        <p:spPr>
          <a:xfrm>
            <a:off x="3581280" y="5410080"/>
            <a:ext cx="184644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530280" y="160812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mole rat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530280" y="3022560"/>
            <a:ext cx="777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mber of mole ratios that can be written for any equation i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1)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number of species in the chemical rea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ng Stoichio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533520" y="103824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article and Mole Relationship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4" descr="SO_Objectives"/>
          <p:cNvPicPr/>
          <p:nvPr/>
        </p:nvPicPr>
        <p:blipFill>
          <a:blip r:embed="rId1"/>
          <a:stretch/>
        </p:blipFill>
        <p:spPr>
          <a:xfrm>
            <a:off x="557280" y="100332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16"/>
          <p:cNvSpPr/>
          <p:nvPr/>
        </p:nvSpPr>
        <p:spPr>
          <a:xfrm>
            <a:off x="609480" y="166536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quence of steps used in solving stoichiometric probl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7" descr="SO_RevVocab"/>
          <p:cNvPicPr/>
          <p:nvPr/>
        </p:nvPicPr>
        <p:blipFill>
          <a:blip r:embed="rId2"/>
          <a:stretch/>
        </p:blipFill>
        <p:spPr>
          <a:xfrm>
            <a:off x="4724280" y="100332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18"/>
          <p:cNvSpPr/>
          <p:nvPr/>
        </p:nvSpPr>
        <p:spPr>
          <a:xfrm>
            <a:off x="4780080" y="1665360"/>
            <a:ext cx="35258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hemical reac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in which the atoms of one or more substances are rearranged to form different substanc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1"/>
          <p:cNvSpPr/>
          <p:nvPr/>
        </p:nvSpPr>
        <p:spPr>
          <a:xfrm>
            <a:off x="609480" y="29383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ol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ichiometric probl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2514600" y="4648320"/>
            <a:ext cx="6324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lution to every stoichiometric problem requires a balanced chemical equ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4" descr="MainIdea"/>
          <p:cNvPicPr/>
          <p:nvPr/>
        </p:nvPicPr>
        <p:blipFill>
          <a:blip r:embed="rId3"/>
          <a:stretch/>
        </p:blipFill>
        <p:spPr>
          <a:xfrm>
            <a:off x="641520" y="4800600"/>
            <a:ext cx="1649160" cy="4096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2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ichiometric Calc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6"/>
          <p:cNvSpPr/>
          <p:nvPr/>
        </p:nvSpPr>
        <p:spPr>
          <a:xfrm>
            <a:off x="533520" y="103824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Using Stoichio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517680" y="1787400"/>
            <a:ext cx="7391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oichiometric calculations begin with a balanced chemical equ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Fe(s)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ichiometric Calc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7:56:35Z</dcterms:created>
  <dc:creator>Glencoe/McGraw-Hill</dc:creator>
  <dc:description/>
  <dc:language>en-US</dc:language>
  <cp:lastModifiedBy>trocksund</cp:lastModifiedBy>
  <dcterms:modified xsi:type="dcterms:W3CDTF">2014-03-11T14:38:42Z</dcterms:modified>
  <cp:revision>109</cp:revision>
  <dc:subject/>
  <dc:title>Chemistry: Matter and Change</dc:title>
</cp:coreProperties>
</file>